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CBE-22C6-4972-AF80-70E3645C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49A-ADBB-42C1-A5D0-C2ED4874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3E2-0D82-4D0E-B94A-C23B1C16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6CB-8878-459F-A1F8-3DC8DBDB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EC4-B958-412D-B9CD-69F6F74C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20B-5DB3-44ED-A959-193DC170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2B1-72DB-4AEF-83BD-130AE87A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6E8-0EFB-40DE-89E5-F175B551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80A-227C-4F02-A0BB-39F548D3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B51-6138-4E27-AB1F-814D4A15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C0D4-96CF-42C1-B076-CF9D7921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D75-A59C-480C-BE05-729A25E3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BD12-3364-4BCA-B924-94A0F5F732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60480" y="1255680"/>
            <a:ext cx="936468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ополагающий вопрос: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такое абсолютная величин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428760" y="4143240"/>
            <a:ext cx="82296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блемный вопрос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дуль и расстояние. Что общег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увидеть отражение графи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500040" y="100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Предмет: 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математик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500040" y="1603440"/>
            <a:ext cx="8286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тодические 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ть определение абсолютной величи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формулировать основные и вспомогательные свойства абсолютной величи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формировать умения и навыки решения задач содержащих неизвестную величину под знаком моду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3148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зультаты представления исследования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Презентация гипотез и доказательств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Буклет – интересные объекты, факты по теме исследова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428760" y="285840"/>
            <a:ext cx="828648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апы и сроки проведения проект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ганизационно-подготовительный этап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1 неделя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остановка проблемы, выдвижение первых гипоте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Формирование групп, составление плана 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Обсуждение возможных источников информации по поставленной проблеме, вопросов защиты авторских пра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Самостоятельное распределение заданий внутри групп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714240" y="214200"/>
            <a:ext cx="821556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апы и сроки проведения проект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II. Экспериментально-аналитический этап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2, 3 недели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Участие в открытых уроках посвященных модул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Анализ первых результатов уро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Корректировка плана (выдвижение новых гипотез и путей их проверк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Обсуждение, обобщение результатов исследований (общие вывод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642960" y="285840"/>
            <a:ext cx="807228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апы и сроки проведения проект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III. 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3, 4 недели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Выбор творческого названия прое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формление результатов исследования в виде презентации и букл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Защита прое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Рефлексия деятельности участников прое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омендуемая 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тьи из газеты «Математика» издательства «Первое сентябр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йдуков И.И. Абсолютная величина. - М.: Просвещение, 196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10-05-31T05:17:43Z</dcterms:modified>
  <cp:revision>21</cp:revision>
  <dc:subject/>
  <dc:title>Слайд 1</dc:title>
</cp:coreProperties>
</file>